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281-1152-43F3-B3AF-36053CA5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FE5-AA25-4FDA-B8CF-F468D54B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8B9-5A93-48F9-8718-FAB765F3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6C1-11D5-4703-94DF-6AB5FDE7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17C-AC05-4A5A-89FD-F652F104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6A1-BEDD-4EE6-AD53-5C3D99D6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210-06DA-43E8-BDCE-DAC8BFCD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1B3-456A-447F-8AFE-FEA1AE3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838-4BE1-4DE7-B868-7F88D796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0CC-6BD4-4470-B92C-1C4D297E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055-72C0-4B26-BFFA-B01A838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A98-AAB7-451E-854A-4C37863F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A33C-8A9C-4131-B1AA-2D8DB69C91AC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8T06:45:27Z</dcterms:modified>
  <cp:revision>173</cp:revision>
  <dc:subject/>
  <dc:title>PowerPoint</dc:title>
</cp:coreProperties>
</file>